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5FD-9F06-4839-B755-BFA46F83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6E4-7CC9-4ECE-99CE-986D4F8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A1A-7920-4C7B-B649-2DF7AE2A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97C-29A3-448E-85C9-956C697E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5EB-A9D9-44B9-8DE2-E4E5C844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46A-C909-43C0-90CE-2348449B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6C29-F3B4-43B8-8653-22B0019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4C2C-8D4C-4F52-9293-5809496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42F6-7B4E-4126-AD19-391134B9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D11-9DAF-4B8F-AA12-5EBC5B45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5213-6D02-4188-8A85-7313E72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EAF-D610-4684-9714-6EE9DEC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4EE-0239-4B81-A6BF-0D872A1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10E9-F5D0-4343-A699-120C2B6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F8C-C8AF-47C9-AD9F-E4B56D6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382-5285-4364-9B67-1D832971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950A-208C-4E3A-BE45-73C0EA00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5AB-766D-4331-88D2-641BDCE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AA2-E268-455E-8E24-663A668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B92-305E-4F1E-BE6A-499DA4E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C2A-062C-4941-8654-75E0999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A8A-C930-4B5C-A6F9-7523308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3D0-E5C8-4259-9E79-03DAA07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167-3C41-4B45-96FE-C17F079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4DE6-3481-4CCD-83D7-0975C39A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D40D-E634-4713-8859-EFF2D0C2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Mural Word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adapted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mall groups or partners to illustrate a set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Mural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class into small groups or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group 4-5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group 11x 14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ke a poster using the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groups share their words and poster wit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m up for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10:55Z</dcterms:modified>
  <cp:revision>11</cp:revision>
  <dc:subject/>
  <dc:title>Light Up the World A vocabulary game from Mentoring Minds Grades 1-4</dc:title>
</cp:coreProperties>
</file>